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146-EB2A-4335-90BD-6E657433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9E4-42F5-462E-9930-57E37F2C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49DC-9CC9-4211-ABF4-DEFCF9332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E5A-1010-4CCB-8E62-02AA59AA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D259-B647-4DA1-9635-F559F555B0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C90C-890E-4A57-8A8C-D2F64FDC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40C-D915-4B73-99EB-D61224B975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7BDA-7070-4C99-9BCB-E5C8DE8B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E76-54FE-4CDD-BA8A-CDA306FF9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752-7365-47DD-ADCF-F38E0171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8AA-23AF-4C7E-A014-053230D4C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19C-7F5E-4E09-8F61-16EF6897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6A3-E363-4861-A1DD-DD5454673F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4F94-5FA1-4FD3-9DDB-D7522B47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0B17-4602-4AFD-A159-B41D2528F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C0A-982D-4548-86A7-2EF8932B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B9B-0AF9-4607-985E-B2DDDBA32F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7B4-7360-4A2C-A866-E8B30036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764-EF73-4929-990B-8BB2D58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C45-0A63-4146-B941-84C38501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AA1-05B3-4CAD-A757-9EBE5EC4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32DD-7BBA-44B5-9678-A7958B4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4BA-A6CB-4B2D-A87A-12B56BC8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9C08-D630-4F27-B7EB-28EDF2D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A2EB-3972-402C-B98B-4C5ECD81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B61-0CC2-4BC9-B6DD-BCE4622B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A6E7-D8A5-4111-9345-F69EE52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E021-43DD-43FC-9A48-37BB109D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B98-FA62-4CDB-B590-726B970F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7A6E-8BC9-4007-A9E1-4B97214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4BE-91B4-415A-8C3C-34824E5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6E3-A84D-4B6C-B6E1-F932EAF3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38AE-EB89-4CBF-B1C6-F04FA40B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F58-A25C-4CB5-AA46-0971BBD0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036-65FA-4F6C-929B-10BDD9D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BB1-69D8-4B71-9B49-C04958F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093-EA3B-4170-A3BE-A8A672CC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067-B09B-4E9B-9F93-9F9252D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66D-456A-4657-83EF-626C7D8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78D-0A94-4B49-984B-6DF6C93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6F0-48D7-4A0D-83C2-053392A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4F33-F554-44D9-AFD9-4D17128B0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208-6199-4F40-8ED7-84B241B4E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estii privind pre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tirea pentru interv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981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ori 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himbe urm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rul angaja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activitatea s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 sunt obiectivele pe termen lung ale acestui departamen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libertate 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vea s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 obiectivel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evaluarea activi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 din aceas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z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ce fel voi fi eu evaluat/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cuparea aces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i po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fi un angajat de succes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viziunea organiz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2080" indent="-61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ine-mi poate oferi răspunsuri în cazul unor întrebări, neclarităţi sau dificultăţ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108000" y="44280"/>
            <a:ext cx="89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Întrebări pe care le puteţi adresa în cadrul intervi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1"/>
          <p:cNvSpPr/>
          <p:nvPr/>
        </p:nvSpPr>
        <p:spPr>
          <a:xfrm>
            <a:off x="179280" y="4428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Sugestii pentru întocmirea unei scrisori de motivaţi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714240" y="62064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ff"/>
                </a:solidFill>
                <a:latin typeface="Arial"/>
              </a:rPr>
              <a:t>Ce este scrisoarea de motivaţie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409680" y="1268280"/>
            <a:ext cx="8316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crisoarea de motivaţ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 document ataşat CV-ului sau dosarului de candidatură (în funcţie de situaţie), în care prezentaţi succi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riil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realiză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erformanţ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şi motivaţii care vă recomandă pentru a lucra în instituţia respectiv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nainte de a pregăti scrisoarea de motivaţie, este util să realizaţi o analiză SWOT a propriilor puncte tari şi puncte slabe pentru a avea o privire cât de cât obiectivă asupra lucrurilor care vă recomandă pentru postul respect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2"/>
          <p:cNvSpPr/>
          <p:nvPr/>
        </p:nvSpPr>
        <p:spPr>
          <a:xfrm>
            <a:off x="546120" y="4428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Pregătirea scrisorii de motivaţi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3"/>
          <p:cNvSpPr/>
          <p:nvPr/>
        </p:nvSpPr>
        <p:spPr>
          <a:xfrm>
            <a:off x="488880" y="692280"/>
            <a:ext cx="8186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Analizaţi anunţurile cu locuri de muncă care se potrivesc nevoilor dumneavoastră: în ziare, pe Internet, revist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site-uri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e specialitate, buletine informative etc.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Analizaţi competenţele (personale, profesionale, de conducere etc.) şi aptitudinile necesare pentru locul de muncă viza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Pe baza acestei analize, scrieţi-vă propriul profil menţionând rezultatele, realizările şi punctele tari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Gândiţi-v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la motivul pentru care doriţi să lucraţi în instituţia / compania respectivă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Identificaţi potenţiala dvs. contribuţie la activităţile / dezvoltarea organizaţiei respective date fiind expertiza şi abilităţile dv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Toate aceste informaţii trebuie introduse într-o scrisoare de motivaţi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le 1"/>
          <p:cNvSpPr/>
          <p:nvPr/>
        </p:nvSpPr>
        <p:spPr>
          <a:xfrm>
            <a:off x="324000" y="44280"/>
            <a:ext cx="8570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Care sunt obiectivele scrisorii de motivaţie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387360" y="836640"/>
            <a:ext cx="8265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vă prezenta realizările şi performanţel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demonstra că sunteţi potriviţi pentru locul de muncă viza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a prezenta cele mai puternice trăsături şi motivaţii care vă recomandă pentru a lucra în instituţia respectiv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324000" y="2852640"/>
            <a:ext cx="85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Care sunt secţiunile scrisorii de motivaţie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387360" y="3573360"/>
            <a:ext cx="8265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pecificarea locului de muncă vizat şi cum aţi aflat despre acest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ezentarea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uccintă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 experienţei şi abilităţilor care vă recomandă pentru locul de muncă respectiv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ezentarea motivului pentru are doriţi să ocupaţi acel loc de munc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În funcţie de situaţie, puteţi include şi o solicitare pentru acordarea unei întâlniri / unui interv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le 2"/>
          <p:cNvSpPr/>
          <p:nvPr/>
        </p:nvSpPr>
        <p:spPr>
          <a:xfrm>
            <a:off x="395280" y="44280"/>
            <a:ext cx="8424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4280" y="44280"/>
            <a:ext cx="854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ff"/>
                </a:solidFill>
                <a:latin typeface="Times New Roman"/>
              </a:rPr>
              <a:t>Principalele greşeli într-o scrisoare de motivaţ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324000" y="716040"/>
            <a:ext cx="854064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Trimiterea unei scrisori de motivaţie universale, creată “pentru toate situaţiile” sau a unei scrisori copiate de la un priet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eprecizarea experienţei care vă arată unicitate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ipsa oricăror informaţii cu privire la experienţa profesională şi rezultatele obţinute la locurile de muncă anterio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ntroducerea de informaţii eronate sau false cu privire la cunoştinţele şi competenţele personale şi profesiona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642960" y="44280"/>
            <a:ext cx="7772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Ştiaţi c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395280" y="692280"/>
            <a:ext cx="8280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mele aspecte evaluate de către angajator vor fi experienţa profesională şi competenţel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poi, acesta va analiza concordanţa între pregătirea dumneavoastră şi locul de muncă vizat în cadrul instituţiei respectiv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 alt aspect pe care angajatorul îl va analiza se referă la companiile în cadrul cărora aţi lucrat, cât de des v-aţi schimbat locul de munc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a final, angajatorul va evalua prezentarea generală, corectitudinea exprimării, hobby-urile dumneavoastră etc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că nu există cerinţe specifice, este recomandabil ca scrisoarea de motivaţie să nu depăşească o pagin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O scrisoare de motivaţie bine scrisă va încuraja angajatorul să citească CV-ul dumneavoastr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41440" y="764640"/>
            <a:ext cx="4751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unde să începeţ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/ cum să elaboraţi analiza SWO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doriţi să transmiteţ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întrebări vi se pot adresa în cadrul interviulu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întrebări puteţi adresa în cadrul interviulu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ă întocmiţi o scrisoare de motivaţi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linazaja.puslapiai.lt/KristinosKurulytes/html%20nuorod/Atrask1.gif"/>
          <p:cNvPicPr/>
          <p:nvPr/>
        </p:nvPicPr>
        <p:blipFill>
          <a:blip r:embed="rId1"/>
          <a:stretch/>
        </p:blipFill>
        <p:spPr>
          <a:xfrm>
            <a:off x="5940360" y="1125360"/>
            <a:ext cx="2201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395280" y="44280"/>
            <a:ext cx="849780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De unde să începeţi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68360" y="692280"/>
            <a:ext cx="8136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Odată identificat un loc de muncă la care doriţi s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depuneţi CV-ul, pregătiţi analiza SW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nând cont de cerinţele postului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ăutaţi informaţii desp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e / companie (statistici, recenzii, valorile promovate de aceasta, activităţi sociale etc.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nalizaţi CV-ul şi adaptaţi-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tergeţi informaţiile care nu sunt conforme 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ul v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bunătăţiţi partea de “competenţe personale / profesionale” conform cu cerinţele postului viza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că nu vi se solicită o scrisoare de motivaţi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 adăuga în CV informaţi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 privire la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rezultate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ţinute la locurile de muncă anterioare, premii obţinute, distincţii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68360" y="2637000"/>
            <a:ext cx="8280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 este analiza SWO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instrument care vă permite auto-evaluarea şi identific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unctelor tari / punctelor slabe, adică acele aspecte care au legătură cu propria persoană (calităţi, defecte etc.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portunităţilor / ameninţărilor, adică acele aspecte care au legătură cu mediul exterior (piaţa muncii, economia ţării etc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ind un instrument de auto-evaluare, nu veţi prezenta această analiză unei alte persoane, ci cu ajutorul ei veţi clarifica anumite aspecte care, ulterior, vă vo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cil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zent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 f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unui po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al angajat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629080" y="692280"/>
            <a:ext cx="3311280" cy="169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68360" y="7984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dezvol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corectat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sa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eli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Trebu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prioritiz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bu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3300"/>
                </a:solidFill>
                <a:latin typeface="Times New Roman"/>
              </a:rPr>
              <a:t>minimiz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09680" y="723240"/>
            <a:ext cx="82580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ncte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ar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ace referire l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acteristic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rsonale pozitiv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bilităţi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evante, cuno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a 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arie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 raportare l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nivelul de educ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ie, specializăr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entuziasm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pasiun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ntru domeniul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în care doriţi să vă desfăşuraţi activitat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11120" y="3747240"/>
            <a:ext cx="82645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ncte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lab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ace referire l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caracteristic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rsonale negative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psa 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e lucr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u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ri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levan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e pentru 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lipsa unei educ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relevante pentru locul de muncă v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ei direc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sau a unor obiective de carie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aptitudin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esionale slabe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naliza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395280" y="692280"/>
            <a:ext cx="208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28760" y="677160"/>
            <a:ext cx="826452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ortunit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ăţ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pot fi legate de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perioada favorabil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, pe piaţa muncii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ntru domeniul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car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oriţi să vă dezvoltaţ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iera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creştere economică care oferă noi posibilităţi pentru domeniul în care doriţi să activaţi pe piaţa muncii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proiect 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v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ite dezvoltarea de noi abili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sau punere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valoare a propriului pot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al neexplorat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cerere crescu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 pi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uncii pentru specializare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v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3985560"/>
            <a:ext cx="8298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enin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ţ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se pot referi l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ucturarea domeniului d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vs. de expertiz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schimb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 pe pi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a munci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u impact direct asupr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postulu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vs.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a nevoii de expertiz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n domeniul în care sunteţi specializ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• o decizie a companiei care nu vine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sprijinul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v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250920" y="4428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Avantajele analizei SW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68360" y="836640"/>
            <a:ext cx="8280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re o structură clară care trebuie urmărită şi este uşor de realiza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formarea unei viziuni de ansamblu asupra propriilor puncte tari şi puncte slab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identificarea unor oportunităţi care pot fi utilizate în beneficiul dvs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identificarea unor ameninţări care trebuie luate în considerare pentru o evaluare corectă şi adecvată în privinţa parcursului propriu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 la clarificarea propriilor obiective şi planificarea propriilor activităţ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468360" y="836640"/>
            <a:ext cx="8136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el mai important aspect este prezentarea personală (printre altele, să aveţi o ţinută îngrijită, curată, în limitele decenţei, adecvată instituţiei/companiei şi locului de muncă viza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important să afişaţi o atitudi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iv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ă şi încredere în forţele propri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 şi limbajul corpului sunt factori importanţ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Menţinerea contactului vizual cu interlocutorii este important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611280" y="4428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Nu uitaţi că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907920"/>
            <a:ext cx="8351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unde aţi aflat despre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ce aţi ales să candidaţi pentru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de vă vedeţi peste cinci an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e valoare adăugată consideraţi că puteţi aduceţi instituţiei / companiei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re este cea mai mare realizare a dumneavoastr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ar cel mai mare eşec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64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re sunt motivele care vă recomandă pentru acest pos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179280" y="44280"/>
            <a:ext cx="8785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ff"/>
                </a:solidFill>
                <a:latin typeface="Arial"/>
              </a:rPr>
              <a:t>Întrebări care vă pot fi adresate în cadrul intervi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9:15:58Z</dcterms:created>
  <dc:creator>Florin Popa</dc:creator>
  <dc:description/>
  <dc:language>en-US</dc:language>
  <cp:lastModifiedBy>Carmen Negrea</cp:lastModifiedBy>
  <dcterms:modified xsi:type="dcterms:W3CDTF">2012-01-16T07:57:47Z</dcterms:modified>
  <cp:revision>1</cp:revision>
  <dc:subject/>
  <dc:title>Sugestii privind pregătirea pentru interviu</dc:title>
</cp:coreProperties>
</file>